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EF02-5227-44F3-995D-46359A3B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g 120-121 in text for explanation of why time is hard to deter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A76-E0ED-4241-9798-D2C1CB2A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E86-3429-449F-B745-BA1D2943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B88-5EF4-4CCC-B323-F068A2C84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2A2-A289-4E9A-A4B1-8E79B19B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46474-07B6-4364-BCAE-1D98089A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104B-153E-4AA6-BE4D-79DD7FC8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73C5-7DB2-48B3-8C10-B7313613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830F-53CE-4065-8108-BEB97684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CDD1-8C46-4DAE-B6E7-B8ABC07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5A82-4C07-4D5E-B1B7-A949DDC9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1641-8FC2-4885-AEE4-D54941F1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68C-0BCA-4B1B-ABC1-4138AD38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8B7-0580-4DC7-A187-04B40397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F2D-BAD0-4E38-82DA-2EFD73A4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E939-EEBC-4D0F-A6E6-6E5CBEDF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4DE-E074-43BF-8340-643FFD21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92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1240" y="16765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92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1240" y="42238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4087-109F-4C90-8D1C-95F974D3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F4C-966C-4A62-9799-832F410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DC2-E8B9-451C-9B21-BCE44A04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2D0-9C82-456E-86CA-F967AB14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151920"/>
            <a:ext cx="746748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128-40C5-4E97-B88B-6CEB62D0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50D-A9DD-4661-822E-1C945E4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760" y="42238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E40-2383-409D-B63E-59724E0C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760" y="16765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2238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9339-36EF-471F-8BC6-F72FA3F5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9C2D-8A21-47E3-B050-80695506E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BEC-B6FE-41EA-A408-F097208F6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3886200"/>
            <a:ext cx="86104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rolog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8600" y="4952520"/>
            <a:ext cx="8610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y of body flui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86280" y="152280"/>
            <a:ext cx="28936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tigens 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bstance, usually a protein, that stimulates the body to produce antibodies to fight an intr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ore than 15 known blood anti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47720" y="495360"/>
            <a:ext cx="7572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tibod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antigen, there is an anti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ntibody is highly specific, this means that only recognizes and interacts with its specific ant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ination of antigen and antibody forms an antigen-antibody complex – the basis for blood ty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w do you type blood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ntiserum to test for agglutination (clu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A – will make type A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B – will make type B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 will not clump with either Anti A or Anti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 Rh – will make Rh+ cl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me Blood Statist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% of Americans have type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% of Americans have typ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% of Americans have typ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% of Americans have type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83120" y="2133720"/>
            <a:ext cx="3349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o is the Universal Donor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- receive blood from A &amp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A &amp;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- receive blood from B &amp;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B &amp;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- receive blood from A, B, AB,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o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is the Universal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- receive blood from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s to A, B, AB, and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is the Universal Do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o do with crime scene blood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each blood sample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cenes with multiple victims, typing and antigen-antibody complexes help reconstruct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10160" y="2709720"/>
            <a:ext cx="4228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blood is needed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 technology allows us to test minute amounts of blood, but the sample does not hold substantial weight like a large sa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reactions from the antigens and DNA fingerprinting could degrade small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refaction- the decay of cells due to bacterial activity in old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rology-De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antigen/antibody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biological fl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, sweat, tears, saliva, semen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10160" y="2352600"/>
            <a:ext cx="422892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done with blood evidence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ng often tells the story of how and when things hap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of bloodstain is difficult to de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su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reto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retor is a person who provide blood typing requirements in all body flui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saliva, semen, gastric juic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confuse blood typing with DNA typing – you can obtain DNA from all body fluids of every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NA TYPING AND BLOOD TYPING ARE NOT THE SAM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you know if a stain is blood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mptiv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stle-Meyer Color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ast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stle-Meyer Color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phenolphthalein + hydrogen peroxide = deep pink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ng a color test, it is only considered presu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 Positives: Potatoes and Horserad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267080" y="2476440"/>
            <a:ext cx="41911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mastix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2567160"/>
            <a:ext cx="4114800" cy="2381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mastix strip moistened with distilled water + blood sample = gree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color test and thus is presum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uminol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minol + blood + dark =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viewed in the d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emely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detect bloodstains diluted up to 10,000,000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819680" y="26859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icrocrystalline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ative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opular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ay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ichman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versions depend on chemical additions to th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s susceptible to interferences of cont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279440" y="2209680"/>
            <a:ext cx="2392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ecipitin Tes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antiserum added to blood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gglutination occurs, then the sample is human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ethods: capillary tube, gel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on samples up to 10-15 yr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produced positive test on 4-5 thousand year old mum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495680" y="228600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ot human blood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still use the precipitin test with other antiser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a species specific antiserum, a serologist can determine the source of the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DNA Fingerprinting/Ty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pater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inherit your blood type from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ernity confirmation plays a role in child support, custody, vis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has role in crimes that involve kidnapping, insurance fraud,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15080" y="2610000"/>
            <a:ext cx="361944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t, I was not even at the crime scene…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leave behind a body fluid sample, it proves your presence at th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ological evidence has more weight than fingerpr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in cases of paternity and ance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ered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ssion of hereditary material is done through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found o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46, 23 from mother, 23 from father, found in pairs resulting in 23 chromosomes in norm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– fe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 – m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lways donate X, Males donate either X 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- Position of a gene on a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s- alternative forms of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- AA,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-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nt- always repres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ssive- not seen if dominant is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ominant- not seen in ful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netics continued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- specific genetic make-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enotype- observed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net Square- diagram of genetic possi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28600" y="2000160"/>
            <a:ext cx="42292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iz…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29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most common body fluid left behind at a crime sc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0" y="3048120"/>
            <a:ext cx="38289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Inf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portion of whole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proteins, enzymes, clotting factors, electrolytes, and 3 types of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ukocytes – white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ythrocytes –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elets – cells involved in clo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Seru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9800" y="1676520"/>
            <a:ext cx="4228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lood clots and the clotted material is removed, a yellowish liquid re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ish fluid is se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contains the majority of proteins and 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um contains the anti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28600" y="2657520"/>
            <a:ext cx="422928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mportant compon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components of blood are very important to forensic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BC’s and se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se two components, a serologist can determine blood type from any sample or s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ore than 100 blood factors known, it is theoretically impossible for two people other than identical twins to have the same combination of blood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Typ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Karl Landsteiner – responsible for ABO blood typing system, allowed for safe matching of blood donor to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ing the blood type helps to narrow the suspec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lood Typ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d by antigens present o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– a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– b ant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antigen – Rh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in most people, responsible for violent antigen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d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armful if Rh negative meets Rh positive during 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0:09:22Z</dcterms:created>
  <dc:creator>Adam's Homepage</dc:creator>
  <dc:description/>
  <cp:keywords/>
  <dc:language>en-US</dc:language>
  <cp:lastModifiedBy>Adam's Homepage</cp:lastModifiedBy>
  <dcterms:modified xsi:type="dcterms:W3CDTF">2008-02-03T03:07:25Z</dcterms:modified>
  <cp:revision>3</cp:revision>
  <dc:subject/>
  <dc:title>Ser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61033</vt:lpwstr>
  </property>
</Properties>
</file>